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wmf" ContentType="image/x-wmf"/>
  <Override PartName="/ppt/media/image16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12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759-C308-4575-88BC-3DCCA9C5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91A-BACD-4FE7-9EC3-5C5A6E11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CD3-FBB8-4BB4-8F2C-99EC443A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F31-04C5-4332-ABE0-12BFA32A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733-1341-44F0-8B52-9A6F65C8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E24-7D37-4B9F-9A55-D43AC155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9FE-5704-454E-8F84-C80C6D04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EF2-A6DA-4602-97A4-27B43322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B19-D37D-4F5E-9572-D9D15D58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0D6-BF96-4D16-A0D2-04C83036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8D1-4ABC-46A0-8CEE-E1A72E36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A2D-1539-436B-829A-1C6BFE3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0F9B-A61D-4F4D-8A17-0187815BC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-72.227 Digital communic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Agent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48769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:  Benoit Hebrard      5711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 Huibin             5702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requirement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ght sou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meet in fiber-optic communicatio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20968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physical compatibility with fi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sufficient powe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capability of various types of mod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fast rise-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high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long life-time-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reasonably low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685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of LEDs and LASER dio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455840" y="1397160"/>
          <a:ext cx="623412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1397160"/>
                    <a:ext cx="62341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38080" y="1295280"/>
          <a:ext cx="7620120" cy="304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295280"/>
                    <a:ext cx="76201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LD%20and%20LED%20corrent%20versus%20ligh%20toutput" descr=""/>
          <p:cNvPicPr/>
          <p:nvPr/>
        </p:nvPicPr>
        <p:blipFill>
          <a:blip r:embed="rId5"/>
          <a:stretch/>
        </p:blipFill>
        <p:spPr>
          <a:xfrm>
            <a:off x="3429000" y="4267080"/>
            <a:ext cx="46483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685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you generate light from semiconductor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aser1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866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aser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624720" cy="4584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5240" y="914400"/>
            <a:ext cx="50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you generate a LASER ligh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838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requirement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cal photodet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meet in fiber-optic communicatio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20968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good sensitivity at the used </a:t>
            </a:r>
            <a:r>
              <a:rPr b="0" lang="en-US" sz="3200" spc="-1" strike="noStrike">
                <a:solidFill>
                  <a:srgbClr val="cc66ff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small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long life s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small rise-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low temperature sensi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66ff"/>
                </a:solidFill>
                <a:latin typeface="Times New Roman"/>
              </a:rPr>
              <a:t>quality/price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7621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o link budget calculation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52388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1. Power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Power loss (junctions, connectors and fi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Required marg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2. Rise-time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3000" y="3809880"/>
            <a:ext cx="54864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ink doesn't fit into specification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464832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More repe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Chang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Chang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762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 of bitrate in cable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evo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9907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fiber network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1828800"/>
            <a:ext cx="67215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oday essentially all long-haul trafic op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transport capacity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optical fiber advances by a factor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very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&gt;100 million k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fiber installed; 1 km of new fiber installed every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00.000 km undersea cable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838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increase capacity even furth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1828800"/>
            <a:ext cx="6721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e transmission of optical fibers has to be utilized more effectiv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e 1.2 µm - 1.6 µm -&gt; 25 TeraHz wind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crease transmission speed per 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pply WDM (Wavelength Division Multiplexing) - DWDM = Dense W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 optical network (optical switching, routing, processing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fut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858000" cy="1660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52480" y="6858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 needed: optical rep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mpli" descr=""/>
          <p:cNvPicPr/>
          <p:nvPr/>
        </p:nvPicPr>
        <p:blipFill>
          <a:blip r:embed="rId2"/>
          <a:stretch/>
        </p:blipFill>
        <p:spPr>
          <a:xfrm>
            <a:off x="2362320" y="3124080"/>
            <a:ext cx="48006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32920" y="87948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ention of light as a communication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nvention2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4390920" cy="2048040"/>
          </a:xfrm>
          <a:prstGeom prst="rect">
            <a:avLst/>
          </a:prstGeom>
          <a:ln w="0">
            <a:noFill/>
          </a:ln>
        </p:spPr>
      </p:pic>
      <p:pic>
        <p:nvPicPr>
          <p:cNvPr id="48" name="invention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2998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fut3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249960" cy="3362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5120" y="91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mponent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6640" y="7272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60680" y="1614600"/>
            <a:ext cx="6568920" cy="43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cc66ff"/>
                </a:solidFill>
                <a:latin typeface="Times New Roman"/>
              </a:rPr>
              <a:t>HUT course T-110.300: "Telecommunication Architectur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cc66ff"/>
                </a:solidFill>
                <a:latin typeface="Times New Roman"/>
              </a:rPr>
              <a:t>(http://www.tml.hut.fi/Studies/T-110.300/2001/Homeworks/model1.ht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cc66ff"/>
                </a:solidFill>
                <a:latin typeface="Times New Roman"/>
              </a:rPr>
              <a:t>Tannebaum book: "Computer network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AU" sz="2000" spc="-1" strike="noStrike">
                <a:solidFill>
                  <a:srgbClr val="cc66ff"/>
                </a:solidFill>
                <a:latin typeface="Times New Roman"/>
              </a:rPr>
              <a:t>HUT "Optics and molecular material"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cc66ff"/>
                </a:solidFill>
                <a:latin typeface="Times New Roman"/>
              </a:rPr>
              <a:t>(http://omm.hut.fi/optics/l_o/2001/luennot/laser_fundamentals.p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cc66ff"/>
                </a:solidFill>
                <a:latin typeface="Times New Roman"/>
              </a:rPr>
              <a:t>Alcatel company: </a:t>
            </a:r>
            <a:r>
              <a:rPr b="0" i="1" lang="en-GB" sz="2000" spc="-1" strike="noStrike">
                <a:solidFill>
                  <a:srgbClr val="cc66ff"/>
                </a:solidFill>
                <a:latin typeface="Times New Roman"/>
              </a:rPr>
              <a:t>www.alcate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819520"/>
            <a:ext cx="4876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33160" y="1116000"/>
            <a:ext cx="66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advantages and disadvantages of optical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209680"/>
            <a:ext cx="7162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66ff"/>
                </a:solidFill>
                <a:latin typeface="Times New Roman"/>
              </a:rPr>
              <a:t>Low transmission loss and wide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66ff"/>
                </a:solidFill>
                <a:latin typeface="Times New Roman"/>
              </a:rPr>
              <a:t>Cables and equipment have small size and 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66ff"/>
                </a:solidFill>
                <a:latin typeface="Times New Roman"/>
              </a:rPr>
              <a:t>Immunity to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66ff"/>
                </a:solidFill>
                <a:latin typeface="Times New Roman"/>
              </a:rPr>
              <a:t>Electrical is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66ff"/>
                </a:solidFill>
                <a:latin typeface="Times New Roman"/>
              </a:rPr>
              <a:t>Signal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66ff"/>
                </a:solidFill>
                <a:latin typeface="Times New Roman"/>
              </a:rPr>
              <a:t>Fibers have abundant raw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71600" y="1523880"/>
            <a:ext cx="1676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dvantag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4800600"/>
            <a:ext cx="1752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disadvantag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41008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Relatively expensive (compare to twisted pair or coaxial c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Relatively unfamiliar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1295280"/>
          <a:ext cx="8001000" cy="52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0100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14300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optical fiber to oth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066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re fiber optics us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33640" y="2209680"/>
            <a:ext cx="6922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tical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ber-optic se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ber-optic amplifiers and la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ght guiding, illumination and ima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838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ingle mode and multimode fi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iber%20types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5867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990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single mode or multimode fib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67652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ngle mode fibe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209680"/>
            <a:ext cx="525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longer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better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3886200"/>
            <a:ext cx="2590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ultimode fib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419720"/>
            <a:ext cx="4190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elatively c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elatively short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lower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affect the propagation in optical fiber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133720"/>
            <a:ext cx="647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scatt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ab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dispe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ttenuation%20in%20optical%20fibres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2591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533520"/>
            <a:ext cx="8229600" cy="5943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685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Scatt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Absor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attenu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tt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3:03:26Z</dcterms:created>
  <dc:creator>s-mikro-24</dc:creator>
  <dc:description/>
  <dc:language>en-US</dc:language>
  <cp:lastModifiedBy>s-mikro-17</cp:lastModifiedBy>
  <dcterms:modified xsi:type="dcterms:W3CDTF">2002-04-16T09:14:05Z</dcterms:modified>
  <cp:revision>14</cp:revision>
  <dc:subject/>
  <dc:title>S-72.227 Digital communication systems</dc:title>
</cp:coreProperties>
</file>